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A27-7E06-4CDC-955B-DBEBDA76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876-6B1A-4195-8DC9-C8C8412D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946-4B42-41FC-8ED2-997D25AB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770-A821-4DDA-A16C-1E587A5A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B0412-9F93-4FB6-B816-3492A087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A783B-0307-40DD-8CDE-C1FBF71D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632BB-F19F-4177-9D01-E24A9131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1923F-C609-4D39-A55C-106830B4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FD14F-8876-4D56-B326-2C746DC7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06C42-F22B-4887-994F-A652975C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2C1FA-E071-4760-9BCF-BCDFD81B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09F-41E5-4E44-8FE8-E238C086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F62BE-D0BF-42FA-838B-130F090D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FEBC2-0F7E-4E4B-B57C-3820269F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4A2AA-8A7B-4B1E-B7FD-109C36E7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24FA4-8D58-4263-98E5-25EEE547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281CB-B73A-4843-8327-3A182201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45C-697A-430A-BAA8-8E4E700B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D04-C146-4B3C-8F94-E9E39996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C23-B265-4453-92A6-82BEC782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10A-1AAA-47D8-A40A-D8AD4839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B2D-3E39-4BF5-AA65-7FD6711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BAB-96FF-4BCC-88B6-B568459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E93-8F85-4714-906E-0D950277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0"/>
            <a:ext cx="9144000" cy="1752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457200" cy="60962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380880"/>
            <a:ext cx="42696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80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99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3C16-B777-430C-89F6-2AEEA88BEFA9}" type="slidenum">
              <a:rPr b="0" lang="en-US" sz="3200" spc="-1" strike="noStrike">
                <a:solidFill>
                  <a:srgbClr val="009999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20301000">
            <a:off x="990360" y="-304560"/>
            <a:ext cx="7297560" cy="6035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8381880" cy="38088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457200" cy="60962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880"/>
            <a:ext cx="106668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7543440" y="63244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99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7210-4BF5-4577-BC3F-4132BBA72BE7}" type="slidenum">
              <a:rPr b="0" lang="en-US" sz="3200" spc="-1" strike="noStrike">
                <a:solidFill>
                  <a:srgbClr val="009999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6"/>
          </p:nvPr>
        </p:nvSpPr>
        <p:spPr>
          <a:xfrm>
            <a:off x="297180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orizon-academy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ddition &amp; Subtraction of Decimals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 McFar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rizon Acade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eland Park, Kan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Tahoma"/>
                <a:hlinkClick r:id="rId1"/>
              </a:rPr>
              <a:t>www.horizon-academy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btract Similar Colum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11668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34 – 1</a:t>
            </a: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2 = _____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27280" y="3660840"/>
            <a:ext cx="2128680" cy="2289960"/>
            <a:chOff x="1727280" y="3660840"/>
            <a:chExt cx="2128680" cy="2289960"/>
          </a:xfrm>
        </p:grpSpPr>
        <p:grpSp>
          <p:nvGrpSpPr>
            <p:cNvPr id="196" name=""/>
            <p:cNvGrpSpPr/>
            <p:nvPr/>
          </p:nvGrpSpPr>
          <p:grpSpPr>
            <a:xfrm>
              <a:off x="1727280" y="3660840"/>
              <a:ext cx="2128680" cy="1531800"/>
              <a:chOff x="1727280" y="3660840"/>
              <a:chExt cx="2128680" cy="1531800"/>
            </a:xfrm>
          </p:grpSpPr>
          <p:sp>
            <p:nvSpPr>
              <p:cNvPr id="197" name=""/>
              <p:cNvSpPr/>
              <p:nvPr/>
            </p:nvSpPr>
            <p:spPr>
              <a:xfrm>
                <a:off x="1727280" y="3660840"/>
                <a:ext cx="21286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   </a:t>
                </a:r>
                <a:r>
                  <a:rPr b="1" lang="en-US" sz="1200" spc="-1" strike="noStrike">
                    <a:solidFill>
                      <a:srgbClr val="3366cc"/>
                    </a:solidFill>
                    <a:latin typeface="Tahoma"/>
                  </a:rPr>
                  <a:t>  </a:t>
                </a:r>
                <a:r>
                  <a:rPr b="1" lang="en-US" sz="600" spc="-1" strike="noStrike">
                    <a:solidFill>
                      <a:srgbClr val="3366cc"/>
                    </a:solidFill>
                    <a:latin typeface="Tahoma"/>
                  </a:rPr>
                  <a:t> </a:t>
                </a: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3 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-  1.2</a:t>
                </a: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	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090880" y="5079960"/>
                <a:ext cx="1590480" cy="1126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369880" y="5186520"/>
              <a:ext cx="981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2.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152880" y="2949480"/>
            <a:ext cx="1234800" cy="928800"/>
            <a:chOff x="3152880" y="2949480"/>
            <a:chExt cx="1234800" cy="928800"/>
          </a:xfrm>
        </p:grpSpPr>
        <p:sp>
          <p:nvSpPr>
            <p:cNvPr id="201" name=""/>
            <p:cNvSpPr/>
            <p:nvPr/>
          </p:nvSpPr>
          <p:spPr>
            <a:xfrm>
              <a:off x="3152880" y="2949480"/>
              <a:ext cx="123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321000" y="3511440"/>
              <a:ext cx="199440" cy="366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55640" y="3976560"/>
            <a:ext cx="1531440" cy="642600"/>
            <a:chOff x="755640" y="3976560"/>
            <a:chExt cx="1531440" cy="642600"/>
          </a:xfrm>
        </p:grpSpPr>
        <p:sp>
          <p:nvSpPr>
            <p:cNvPr id="204" name=""/>
            <p:cNvSpPr/>
            <p:nvPr/>
          </p:nvSpPr>
          <p:spPr>
            <a:xfrm>
              <a:off x="755640" y="3976560"/>
              <a:ext cx="11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76960" y="4405320"/>
              <a:ext cx="51012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320640" y="4068720"/>
            <a:ext cx="2051280" cy="642600"/>
            <a:chOff x="3320640" y="4068720"/>
            <a:chExt cx="2051280" cy="642600"/>
          </a:xfrm>
        </p:grpSpPr>
        <p:sp>
          <p:nvSpPr>
            <p:cNvPr id="207" name=""/>
            <p:cNvSpPr/>
            <p:nvPr/>
          </p:nvSpPr>
          <p:spPr>
            <a:xfrm>
              <a:off x="3789000" y="4068720"/>
              <a:ext cx="158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Times New Roman"/>
                </a:rPr>
                <a:t>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320640" y="4478400"/>
              <a:ext cx="53532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609560" y="2973240"/>
            <a:ext cx="1015920" cy="905040"/>
            <a:chOff x="1609560" y="2973240"/>
            <a:chExt cx="1015920" cy="905040"/>
          </a:xfrm>
        </p:grpSpPr>
        <p:sp>
          <p:nvSpPr>
            <p:cNvPr id="210" name=""/>
            <p:cNvSpPr/>
            <p:nvPr/>
          </p:nvSpPr>
          <p:spPr>
            <a:xfrm>
              <a:off x="1609560" y="2973240"/>
              <a:ext cx="10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19040" y="3511440"/>
              <a:ext cx="200160" cy="366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776920" y="3556080"/>
            <a:ext cx="29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ULE: Only add and subtract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LIK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560600" y="5961240"/>
            <a:ext cx="2714400" cy="587520"/>
            <a:chOff x="1560600" y="5961240"/>
            <a:chExt cx="2714400" cy="587520"/>
          </a:xfrm>
        </p:grpSpPr>
        <p:sp>
          <p:nvSpPr>
            <p:cNvPr id="214" name=""/>
            <p:cNvSpPr/>
            <p:nvPr/>
          </p:nvSpPr>
          <p:spPr>
            <a:xfrm>
              <a:off x="1560600" y="5961240"/>
              <a:ext cx="27144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ar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743280" y="5967360"/>
              <a:ext cx="421920" cy="581400"/>
              <a:chOff x="3743280" y="5967360"/>
              <a:chExt cx="421920" cy="581400"/>
            </a:xfrm>
          </p:grpSpPr>
          <p:sp>
            <p:nvSpPr>
              <p:cNvPr id="216" name=""/>
              <p:cNvSpPr/>
              <p:nvPr/>
            </p:nvSpPr>
            <p:spPr>
              <a:xfrm>
                <a:off x="3743280" y="5967360"/>
                <a:ext cx="421920" cy="4755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06280" y="6028200"/>
                <a:ext cx="29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695240" y="5967360"/>
              <a:ext cx="421920" cy="581400"/>
              <a:chOff x="1695240" y="5967360"/>
              <a:chExt cx="421920" cy="581400"/>
            </a:xfrm>
          </p:grpSpPr>
          <p:sp>
            <p:nvSpPr>
              <p:cNvPr id="219" name=""/>
              <p:cNvSpPr/>
              <p:nvPr/>
            </p:nvSpPr>
            <p:spPr>
              <a:xfrm>
                <a:off x="1695240" y="5967360"/>
                <a:ext cx="421920" cy="4755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58240" y="6028200"/>
                <a:ext cx="29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btract Similar Colum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74600"/>
            <a:ext cx="5486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34 – 1.2 = _____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727280" y="3660840"/>
            <a:ext cx="2448000" cy="2348640"/>
            <a:chOff x="1727280" y="3660840"/>
            <a:chExt cx="2448000" cy="2348640"/>
          </a:xfrm>
        </p:grpSpPr>
        <p:grpSp>
          <p:nvGrpSpPr>
            <p:cNvPr id="224" name=""/>
            <p:cNvGrpSpPr/>
            <p:nvPr/>
          </p:nvGrpSpPr>
          <p:grpSpPr>
            <a:xfrm>
              <a:off x="1727280" y="3660840"/>
              <a:ext cx="2448000" cy="1562040"/>
              <a:chOff x="1727280" y="3660840"/>
              <a:chExt cx="2448000" cy="1562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727280" y="3660840"/>
                <a:ext cx="244800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   </a:t>
                </a:r>
                <a:r>
                  <a:rPr b="1" lang="en-US" sz="1200" spc="-1" strike="noStrike">
                    <a:solidFill>
                      <a:srgbClr val="3366cc"/>
                    </a:solidFill>
                    <a:latin typeface="Tahoma"/>
                  </a:rPr>
                  <a:t>  </a:t>
                </a:r>
                <a:r>
                  <a:rPr b="1" lang="en-US" sz="600" spc="-1" strike="noStrike">
                    <a:solidFill>
                      <a:srgbClr val="3366cc"/>
                    </a:solidFill>
                    <a:latin typeface="Tahoma"/>
                  </a:rPr>
                  <a:t> </a:t>
                </a: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34. </a:t>
                </a:r>
                <a:r>
                  <a:rPr b="1" lang="en-US" sz="4400" spc="-1" strike="noStrike">
                    <a:solidFill>
                      <a:srgbClr val="cc0000"/>
                    </a:solidFill>
                    <a:latin typeface="Tahoma"/>
                  </a:rPr>
                  <a:t>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-    </a:t>
                </a:r>
                <a:r>
                  <a:rPr b="1" lang="en-US" sz="600" spc="-1" strike="noStrike">
                    <a:solidFill>
                      <a:srgbClr val="3366cc"/>
                    </a:solidFill>
                    <a:latin typeface="Tahoma"/>
                  </a:rPr>
                  <a:t>   </a:t>
                </a:r>
                <a:r>
                  <a:rPr b="1" lang="en-US" sz="4400" spc="-1" strike="noStrike">
                    <a:solidFill>
                      <a:srgbClr val="3366cc"/>
                    </a:solidFill>
                    <a:latin typeface="Tahoma"/>
                  </a:rPr>
                  <a:t>1. 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90880" y="5079960"/>
                <a:ext cx="2022480" cy="1429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2905200" y="5245200"/>
              <a:ext cx="633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138480" y="3781440"/>
            <a:ext cx="145800" cy="2319120"/>
            <a:chOff x="3138480" y="3781440"/>
            <a:chExt cx="145800" cy="2319120"/>
          </a:xfrm>
        </p:grpSpPr>
        <p:sp>
          <p:nvSpPr>
            <p:cNvPr id="229" name=""/>
            <p:cNvSpPr/>
            <p:nvPr/>
          </p:nvSpPr>
          <p:spPr>
            <a:xfrm>
              <a:off x="3284280" y="3781440"/>
              <a:ext cx="0" cy="23191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38480" y="3781440"/>
              <a:ext cx="0" cy="23191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87560" y="2732040"/>
            <a:ext cx="1146240" cy="866880"/>
            <a:chOff x="1987560" y="2732040"/>
            <a:chExt cx="1146240" cy="866880"/>
          </a:xfrm>
        </p:grpSpPr>
        <p:sp>
          <p:nvSpPr>
            <p:cNvPr id="232" name=""/>
            <p:cNvSpPr/>
            <p:nvPr/>
          </p:nvSpPr>
          <p:spPr>
            <a:xfrm>
              <a:off x="1987560" y="2732040"/>
              <a:ext cx="11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78200" y="3287880"/>
              <a:ext cx="54000" cy="311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37000" y="2709720"/>
            <a:ext cx="1430280" cy="863640"/>
            <a:chOff x="3537000" y="2709720"/>
            <a:chExt cx="1430280" cy="863640"/>
          </a:xfrm>
        </p:grpSpPr>
        <p:sp>
          <p:nvSpPr>
            <p:cNvPr id="235" name=""/>
            <p:cNvSpPr/>
            <p:nvPr/>
          </p:nvSpPr>
          <p:spPr>
            <a:xfrm>
              <a:off x="3537000" y="2709720"/>
              <a:ext cx="143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Times New Roman"/>
                </a:rPr>
                <a:t>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635280" y="3262320"/>
              <a:ext cx="54000" cy="311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78160" y="384192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840040" y="3492360"/>
            <a:ext cx="306360" cy="749160"/>
            <a:chOff x="2840040" y="3492360"/>
            <a:chExt cx="306360" cy="749160"/>
          </a:xfrm>
        </p:grpSpPr>
        <p:sp>
          <p:nvSpPr>
            <p:cNvPr id="239" name=""/>
            <p:cNvSpPr/>
            <p:nvPr/>
          </p:nvSpPr>
          <p:spPr>
            <a:xfrm>
              <a:off x="2840040" y="349236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844720" y="3835080"/>
              <a:ext cx="260280" cy="406440"/>
              <a:chOff x="2844720" y="3835080"/>
              <a:chExt cx="260280" cy="40644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2844720" y="3835080"/>
                <a:ext cx="241560" cy="40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863800" y="3835080"/>
                <a:ext cx="241200" cy="40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723960" y="2004840"/>
            <a:ext cx="765000" cy="64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96920" y="2081160"/>
            <a:ext cx="406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631240" y="1366920"/>
            <a:ext cx="5627880" cy="1490040"/>
            <a:chOff x="2631240" y="1366920"/>
            <a:chExt cx="5627880" cy="1490040"/>
          </a:xfrm>
        </p:grpSpPr>
        <p:sp>
          <p:nvSpPr>
            <p:cNvPr id="246" name=""/>
            <p:cNvSpPr/>
            <p:nvPr/>
          </p:nvSpPr>
          <p:spPr>
            <a:xfrm>
              <a:off x="6582600" y="20113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cc"/>
                  </a:solidFill>
                  <a:latin typeface="Tahoma"/>
                </a:rPr>
                <a:t>3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1186000">
              <a:off x="2660760" y="1698120"/>
              <a:ext cx="5568840" cy="827280"/>
            </a:xfrm>
            <a:custGeom>
              <a:avLst/>
              <a:gdLst/>
              <a:ahLst/>
              <a:rect l="l" t="t" r="r" b="b"/>
              <a:pathLst>
                <a:path w="2843" h="1259">
                  <a:moveTo>
                    <a:pt x="0" y="88"/>
                  </a:moveTo>
                  <a:cubicBezTo>
                    <a:pt x="939" y="44"/>
                    <a:pt x="1878" y="0"/>
                    <a:pt x="2350" y="98"/>
                  </a:cubicBezTo>
                  <a:cubicBezTo>
                    <a:pt x="2822" y="196"/>
                    <a:pt x="2827" y="481"/>
                    <a:pt x="2835" y="674"/>
                  </a:cubicBezTo>
                  <a:cubicBezTo>
                    <a:pt x="2843" y="867"/>
                    <a:pt x="2619" y="1063"/>
                    <a:pt x="2396" y="12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865680" y="2655720"/>
            <a:ext cx="3114720" cy="3651480"/>
          </a:xfrm>
          <a:custGeom>
            <a:avLst/>
            <a:gdLst/>
            <a:ahLst/>
            <a:rect l="l" t="t" r="r" b="b"/>
            <a:pathLst>
              <a:path w="2191" h="2437">
                <a:moveTo>
                  <a:pt x="143" y="2112"/>
                </a:moveTo>
                <a:cubicBezTo>
                  <a:pt x="71" y="2114"/>
                  <a:pt x="0" y="2116"/>
                  <a:pt x="207" y="2112"/>
                </a:cubicBezTo>
                <a:cubicBezTo>
                  <a:pt x="414" y="2108"/>
                  <a:pt x="1056" y="2437"/>
                  <a:pt x="1387" y="2085"/>
                </a:cubicBezTo>
                <a:cubicBezTo>
                  <a:pt x="1718" y="1733"/>
                  <a:pt x="1954" y="866"/>
                  <a:pt x="2191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2880" y="5245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80200" y="5245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16240" y="5257800"/>
            <a:ext cx="48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353360" y="4226040"/>
          <a:ext cx="128736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3360" y="4226040"/>
                    <a:ext cx="12873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ere’s a Tricky On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197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8 - 3.56 = _______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2001600" y="3265560"/>
            <a:ext cx="9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.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91320" y="3265560"/>
            <a:ext cx="1955160" cy="1579320"/>
            <a:chOff x="1291320" y="3265560"/>
            <a:chExt cx="1955160" cy="1579320"/>
          </a:xfrm>
        </p:grpSpPr>
        <p:sp>
          <p:nvSpPr>
            <p:cNvPr id="258" name=""/>
            <p:cNvSpPr/>
            <p:nvPr/>
          </p:nvSpPr>
          <p:spPr>
            <a:xfrm>
              <a:off x="1602000" y="32655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1320" y="3962520"/>
              <a:ext cx="1625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- 3.5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9520" y="4687920"/>
              <a:ext cx="1866960" cy="156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673640" y="49068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5.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881520" y="3365640"/>
            <a:ext cx="2246400" cy="207324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523880" y="4992840"/>
            <a:ext cx="1640160" cy="520560"/>
            <a:chOff x="1523880" y="4992840"/>
            <a:chExt cx="1640160" cy="520560"/>
          </a:xfrm>
        </p:grpSpPr>
        <p:sp>
          <p:nvSpPr>
            <p:cNvPr id="264" name=""/>
            <p:cNvSpPr/>
            <p:nvPr/>
          </p:nvSpPr>
          <p:spPr>
            <a:xfrm flipH="1">
              <a:off x="1523880" y="4992840"/>
              <a:ext cx="164016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3880" y="5005440"/>
              <a:ext cx="164016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051520" y="3411360"/>
            <a:ext cx="0" cy="1059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09040" y="3265560"/>
            <a:ext cx="2126880" cy="1579320"/>
            <a:chOff x="6809040" y="3265560"/>
            <a:chExt cx="2126880" cy="1579320"/>
          </a:xfrm>
        </p:grpSpPr>
        <p:sp>
          <p:nvSpPr>
            <p:cNvPr id="268" name=""/>
            <p:cNvSpPr/>
            <p:nvPr/>
          </p:nvSpPr>
          <p:spPr>
            <a:xfrm>
              <a:off x="7162920" y="3265560"/>
              <a:ext cx="1590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8. 0 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09040" y="3962520"/>
              <a:ext cx="191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- 3. 5 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78520" y="4687920"/>
              <a:ext cx="2057400" cy="156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215120" y="3111480"/>
            <a:ext cx="306360" cy="748800"/>
            <a:chOff x="7215120" y="3111480"/>
            <a:chExt cx="306360" cy="748800"/>
          </a:xfrm>
        </p:grpSpPr>
        <p:sp>
          <p:nvSpPr>
            <p:cNvPr id="272" name=""/>
            <p:cNvSpPr/>
            <p:nvPr/>
          </p:nvSpPr>
          <p:spPr>
            <a:xfrm>
              <a:off x="7215120" y="311148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7219800" y="3454200"/>
              <a:ext cx="260280" cy="406080"/>
              <a:chOff x="7219800" y="3454200"/>
              <a:chExt cx="260280" cy="40608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7219800" y="3454200"/>
                <a:ext cx="241560" cy="4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7238880" y="3454200"/>
                <a:ext cx="241200" cy="4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7672320" y="332100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13520" y="3111480"/>
            <a:ext cx="306360" cy="748800"/>
            <a:chOff x="7913520" y="3111480"/>
            <a:chExt cx="306360" cy="748800"/>
          </a:xfrm>
        </p:grpSpPr>
        <p:sp>
          <p:nvSpPr>
            <p:cNvPr id="278" name=""/>
            <p:cNvSpPr/>
            <p:nvPr/>
          </p:nvSpPr>
          <p:spPr>
            <a:xfrm>
              <a:off x="7913520" y="311148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918200" y="3454200"/>
              <a:ext cx="260280" cy="406080"/>
              <a:chOff x="7918200" y="3454200"/>
              <a:chExt cx="260280" cy="40608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7918200" y="3454200"/>
                <a:ext cx="241560" cy="4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7937280" y="3454200"/>
                <a:ext cx="241200" cy="4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8205840" y="332100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5160" y="4881600"/>
            <a:ext cx="183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4. 4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65360" y="5626080"/>
            <a:ext cx="5384880" cy="576360"/>
          </a:xfrm>
          <a:custGeom>
            <a:avLst/>
            <a:gdLst/>
            <a:ahLst/>
            <a:rect l="l" t="t" r="r" b="b"/>
            <a:pathLst>
              <a:path w="3392" h="363">
                <a:moveTo>
                  <a:pt x="3392" y="16"/>
                </a:moveTo>
                <a:cubicBezTo>
                  <a:pt x="2734" y="189"/>
                  <a:pt x="2077" y="363"/>
                  <a:pt x="1512" y="360"/>
                </a:cubicBezTo>
                <a:cubicBezTo>
                  <a:pt x="947" y="357"/>
                  <a:pt x="473" y="17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e’re Done!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ce job following along in the less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use what you learned in your wor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 McFarland ©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d and Subtract </a:t>
            </a: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like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lum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5600" y="1774800"/>
            <a:ext cx="83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71 + 58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+ 25 = 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61080" y="3184560"/>
            <a:ext cx="1670040" cy="2287440"/>
            <a:chOff x="4861080" y="3184560"/>
            <a:chExt cx="1670040" cy="2287440"/>
          </a:xfrm>
        </p:grpSpPr>
        <p:sp>
          <p:nvSpPr>
            <p:cNvPr id="93" name=""/>
            <p:cNvSpPr/>
            <p:nvPr/>
          </p:nvSpPr>
          <p:spPr>
            <a:xfrm>
              <a:off x="5398920" y="5470560"/>
              <a:ext cx="113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480" y="3184560"/>
              <a:ext cx="1095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7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5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61080" y="4630680"/>
              <a:ext cx="49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803920" y="5514840"/>
            <a:ext cx="65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86480" y="2914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72160" y="5514840"/>
            <a:ext cx="12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192560" y="2930400"/>
            <a:ext cx="1357200" cy="642600"/>
            <a:chOff x="4192560" y="2930400"/>
            <a:chExt cx="1357200" cy="642600"/>
          </a:xfrm>
        </p:grpSpPr>
        <p:sp>
          <p:nvSpPr>
            <p:cNvPr id="100" name=""/>
            <p:cNvSpPr/>
            <p:nvPr/>
          </p:nvSpPr>
          <p:spPr>
            <a:xfrm>
              <a:off x="4192560" y="2930400"/>
              <a:ext cx="10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97600" y="3359160"/>
              <a:ext cx="45216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21520" y="2949480"/>
            <a:ext cx="1731960" cy="642600"/>
            <a:chOff x="6221520" y="2949480"/>
            <a:chExt cx="1731960" cy="642600"/>
          </a:xfrm>
        </p:grpSpPr>
        <p:sp>
          <p:nvSpPr>
            <p:cNvPr id="103" name=""/>
            <p:cNvSpPr/>
            <p:nvPr/>
          </p:nvSpPr>
          <p:spPr>
            <a:xfrm>
              <a:off x="6616800" y="294948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221520" y="3359160"/>
              <a:ext cx="45216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98480" y="3976560"/>
            <a:ext cx="29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ULE: Only add and subtract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LIK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71680" y="1744560"/>
            <a:ext cx="670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7.1 + 5.8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+ 2.5 = 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80880"/>
            <a:ext cx="810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d &amp; Subtract </a:t>
            </a: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like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861080" y="3184560"/>
            <a:ext cx="1872720" cy="2287440"/>
            <a:chOff x="4861080" y="3184560"/>
            <a:chExt cx="1872720" cy="2287440"/>
          </a:xfrm>
        </p:grpSpPr>
        <p:sp>
          <p:nvSpPr>
            <p:cNvPr id="109" name=""/>
            <p:cNvSpPr/>
            <p:nvPr/>
          </p:nvSpPr>
          <p:spPr>
            <a:xfrm>
              <a:off x="5398920" y="5470560"/>
              <a:ext cx="130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1480" y="3184560"/>
              <a:ext cx="15523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7 . 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5 . 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2 . 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61080" y="4630680"/>
              <a:ext cx="49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951520" y="5514840"/>
            <a:ext cx="8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.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6480" y="29145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72160" y="5514840"/>
            <a:ext cx="12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46680" y="2930400"/>
            <a:ext cx="1602720" cy="642600"/>
            <a:chOff x="3946680" y="2930400"/>
            <a:chExt cx="1602720" cy="642600"/>
          </a:xfrm>
        </p:grpSpPr>
        <p:sp>
          <p:nvSpPr>
            <p:cNvPr id="116" name=""/>
            <p:cNvSpPr/>
            <p:nvPr/>
          </p:nvSpPr>
          <p:spPr>
            <a:xfrm>
              <a:off x="3946680" y="2930400"/>
              <a:ext cx="119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15520" y="3359160"/>
              <a:ext cx="53388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05280" y="2949480"/>
            <a:ext cx="2095560" cy="642600"/>
            <a:chOff x="6605280" y="2949480"/>
            <a:chExt cx="2095560" cy="642600"/>
          </a:xfrm>
        </p:grpSpPr>
        <p:sp>
          <p:nvSpPr>
            <p:cNvPr id="119" name=""/>
            <p:cNvSpPr/>
            <p:nvPr/>
          </p:nvSpPr>
          <p:spPr>
            <a:xfrm>
              <a:off x="7083720" y="2949480"/>
              <a:ext cx="16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Times New Roman"/>
                </a:rPr>
                <a:t>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605280" y="3359160"/>
              <a:ext cx="54684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48280" y="3519360"/>
            <a:ext cx="317520" cy="1881360"/>
          </a:xfrm>
          <a:prstGeom prst="downArrow">
            <a:avLst>
              <a:gd name="adj1" fmla="val 50000"/>
              <a:gd name="adj2" fmla="val 65835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3976560"/>
            <a:ext cx="29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ULE: Only add and subtract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LIK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“Understood” Decimal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umber 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 = 1 ten + 5 ones (10 + 5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ould put a decimal to separate the whole number from the decim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.0   There is NO value in the tenths column, so we put 0 (zer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dition with the “Understood” Decimal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were adding 15 + 12 you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rite the problem 15.0 + 1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.0 + 12.0 = 27.0 or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re is no decimal value, the zer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the decim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NOT written, but they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ndersto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still be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ake The Columns Eve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34.5 + 21 + 8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800440" y="2437920"/>
            <a:ext cx="0" cy="8384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70080" y="3605040"/>
            <a:ext cx="1766880" cy="1625760"/>
            <a:chOff x="1270080" y="3605040"/>
            <a:chExt cx="1766880" cy="1625760"/>
          </a:xfrm>
        </p:grpSpPr>
        <p:sp>
          <p:nvSpPr>
            <p:cNvPr id="131" name=""/>
            <p:cNvSpPr/>
            <p:nvPr/>
          </p:nvSpPr>
          <p:spPr>
            <a:xfrm>
              <a:off x="1672920" y="3605040"/>
              <a:ext cx="996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34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8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70080" y="4581360"/>
              <a:ext cx="42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92200" y="5105520"/>
              <a:ext cx="1544760" cy="125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519280" y="411156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49480" y="3581280"/>
            <a:ext cx="571320" cy="1333800"/>
            <a:chOff x="2049480" y="3581280"/>
            <a:chExt cx="571320" cy="1333800"/>
          </a:xfrm>
        </p:grpSpPr>
        <p:sp>
          <p:nvSpPr>
            <p:cNvPr id="136" name=""/>
            <p:cNvSpPr/>
            <p:nvPr/>
          </p:nvSpPr>
          <p:spPr>
            <a:xfrm>
              <a:off x="2049480" y="3581280"/>
              <a:ext cx="571320" cy="854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340000" y="4587840"/>
              <a:ext cx="280800" cy="327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924080" y="3605040"/>
            <a:ext cx="99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34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21.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21240" y="4581360"/>
            <a:ext cx="4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5105520"/>
            <a:ext cx="1387440" cy="112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510160" y="3689280"/>
            <a:ext cx="108000" cy="1724040"/>
            <a:chOff x="5510160" y="3689280"/>
            <a:chExt cx="108000" cy="1724040"/>
          </a:xfrm>
        </p:grpSpPr>
        <p:sp>
          <p:nvSpPr>
            <p:cNvPr id="142" name=""/>
            <p:cNvSpPr/>
            <p:nvPr/>
          </p:nvSpPr>
          <p:spPr>
            <a:xfrm>
              <a:off x="5618160" y="3689280"/>
              <a:ext cx="0" cy="1724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10160" y="3689280"/>
              <a:ext cx="0" cy="1724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254560" y="206064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ULE: Add zeros to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eve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the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ake The Columns Eve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070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44.589 + 7.23 +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84200" y="2467080"/>
            <a:ext cx="1336680" cy="997920"/>
            <a:chOff x="1384200" y="2467080"/>
            <a:chExt cx="1336680" cy="997920"/>
          </a:xfrm>
        </p:grpSpPr>
        <p:sp>
          <p:nvSpPr>
            <p:cNvPr id="148" name=""/>
            <p:cNvSpPr/>
            <p:nvPr/>
          </p:nvSpPr>
          <p:spPr>
            <a:xfrm flipH="1" flipV="1">
              <a:off x="1585800" y="2467080"/>
              <a:ext cx="2793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1893960" y="2467080"/>
              <a:ext cx="28080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158560" y="2467080"/>
              <a:ext cx="2811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84200" y="282240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ahoma"/>
                </a:rPr>
                <a:t>3 decimal colum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48120" y="2467080"/>
            <a:ext cx="1336680" cy="997920"/>
            <a:chOff x="3048120" y="2467080"/>
            <a:chExt cx="1336680" cy="997920"/>
          </a:xfrm>
        </p:grpSpPr>
        <p:sp>
          <p:nvSpPr>
            <p:cNvPr id="153" name=""/>
            <p:cNvSpPr/>
            <p:nvPr/>
          </p:nvSpPr>
          <p:spPr>
            <a:xfrm flipH="1" flipV="1">
              <a:off x="3351240" y="2467080"/>
              <a:ext cx="2793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614760" y="2467080"/>
              <a:ext cx="2793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8120" y="282240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ahoma"/>
                </a:rPr>
                <a:t>2 decimal colum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19720" y="2467080"/>
            <a:ext cx="1336680" cy="997920"/>
            <a:chOff x="4419720" y="2467080"/>
            <a:chExt cx="1336680" cy="997920"/>
          </a:xfrm>
        </p:grpSpPr>
        <p:sp>
          <p:nvSpPr>
            <p:cNvPr id="157" name=""/>
            <p:cNvSpPr/>
            <p:nvPr/>
          </p:nvSpPr>
          <p:spPr>
            <a:xfrm flipH="1" flipV="1">
              <a:off x="4429080" y="2467080"/>
              <a:ext cx="279360" cy="326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19720" y="282240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ahoma"/>
                </a:rPr>
                <a:t>0 decimal colum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515280" y="441792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56.8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10280" y="2517840"/>
            <a:ext cx="2530440" cy="1851120"/>
            <a:chOff x="6110280" y="2517840"/>
            <a:chExt cx="2530440" cy="1851120"/>
          </a:xfrm>
        </p:grpSpPr>
        <p:sp>
          <p:nvSpPr>
            <p:cNvPr id="161" name=""/>
            <p:cNvSpPr/>
            <p:nvPr/>
          </p:nvSpPr>
          <p:spPr>
            <a:xfrm>
              <a:off x="6527880" y="2517840"/>
              <a:ext cx="2112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44.589</a:t>
              </a: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	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    </a:t>
              </a:r>
              <a:r>
                <a:rPr b="1" lang="en-US" sz="800" spc="-1" strike="noStrike">
                  <a:solidFill>
                    <a:srgbClr val="6600cc"/>
                  </a:solidFill>
                  <a:latin typeface="Tahoma"/>
                </a:rPr>
                <a:t>  </a:t>
              </a: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  </a:t>
              </a:r>
              <a:r>
                <a:rPr b="1" lang="en-US" sz="800" spc="-1" strike="noStrike">
                  <a:solidFill>
                    <a:srgbClr val="6600cc"/>
                  </a:solidFill>
                  <a:latin typeface="Tahoma"/>
                </a:rPr>
                <a:t>           </a:t>
              </a:r>
              <a:r>
                <a:rPr b="1" lang="en-US" sz="3600" spc="-1" strike="noStrike">
                  <a:solidFill>
                    <a:srgbClr val="6600cc"/>
                  </a:solidFill>
                  <a:latin typeface="Tahoma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10280" y="3660840"/>
              <a:ext cx="42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cc"/>
                  </a:solidFill>
                  <a:latin typeface="Tahoma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50200" y="4243320"/>
              <a:ext cx="1849320" cy="125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215120" y="2465280"/>
            <a:ext cx="108000" cy="1724040"/>
            <a:chOff x="7215120" y="2465280"/>
            <a:chExt cx="108000" cy="1724040"/>
          </a:xfrm>
        </p:grpSpPr>
        <p:sp>
          <p:nvSpPr>
            <p:cNvPr id="165" name=""/>
            <p:cNvSpPr/>
            <p:nvPr/>
          </p:nvSpPr>
          <p:spPr>
            <a:xfrm>
              <a:off x="7323120" y="2465280"/>
              <a:ext cx="0" cy="1724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15120" y="2465280"/>
              <a:ext cx="0" cy="1724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331040" y="223344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2920" y="223344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19840" y="308628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77040" y="30765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58080" y="306720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0760" y="357192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2008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3424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2968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0092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4981680"/>
            <a:ext cx="171360" cy="17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btracting Decimal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 how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our colum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901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 the “understood” .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en looking at a whole number like 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901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t could be 7.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 7.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00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f neede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901"/>
              </a:spcBef>
              <a:buClr>
                <a:srgbClr val="008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 subtraction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t will be neede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Let’s Look at Subtrac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98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34 – 12 = _____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73520" y="3718080"/>
            <a:ext cx="1649520" cy="2289600"/>
            <a:chOff x="4673520" y="3718080"/>
            <a:chExt cx="1649520" cy="2289600"/>
          </a:xfrm>
        </p:grpSpPr>
        <p:sp>
          <p:nvSpPr>
            <p:cNvPr id="184" name=""/>
            <p:cNvSpPr/>
            <p:nvPr/>
          </p:nvSpPr>
          <p:spPr>
            <a:xfrm>
              <a:off x="4673520" y="3718080"/>
              <a:ext cx="1621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   </a:t>
              </a:r>
              <a:r>
                <a:rPr b="1" lang="en-US" sz="1200" spc="-1" strike="noStrike">
                  <a:solidFill>
                    <a:srgbClr val="3366cc"/>
                  </a:solidFill>
                  <a:latin typeface="Tahoma"/>
                </a:rPr>
                <a:t>  </a:t>
              </a:r>
              <a:r>
                <a:rPr b="1" lang="en-US" sz="600" spc="-1" strike="noStrike">
                  <a:solidFill>
                    <a:srgbClr val="3366cc"/>
                  </a:solidFill>
                  <a:latin typeface="Tahoma"/>
                </a:rPr>
                <a:t> </a:t>
              </a: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3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-  1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5600" y="5079960"/>
              <a:ext cx="1387440" cy="112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09280" y="524340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cc"/>
                  </a:solidFill>
                  <a:latin typeface="Tahoma"/>
                </a:rPr>
                <a:t>2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21200" y="3322800"/>
            <a:ext cx="1330200" cy="642600"/>
            <a:chOff x="4021200" y="3322800"/>
            <a:chExt cx="1330200" cy="642600"/>
          </a:xfrm>
        </p:grpSpPr>
        <p:sp>
          <p:nvSpPr>
            <p:cNvPr id="188" name=""/>
            <p:cNvSpPr/>
            <p:nvPr/>
          </p:nvSpPr>
          <p:spPr>
            <a:xfrm>
              <a:off x="4021200" y="3322800"/>
              <a:ext cx="9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e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08240" y="3751200"/>
              <a:ext cx="443160" cy="183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094440" y="3341520"/>
            <a:ext cx="1514160" cy="642600"/>
            <a:chOff x="6094440" y="3341520"/>
            <a:chExt cx="1514160" cy="642600"/>
          </a:xfrm>
        </p:grpSpPr>
        <p:sp>
          <p:nvSpPr>
            <p:cNvPr id="191" name=""/>
            <p:cNvSpPr/>
            <p:nvPr/>
          </p:nvSpPr>
          <p:spPr>
            <a:xfrm>
              <a:off x="6440040" y="3341520"/>
              <a:ext cx="116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094440" y="3751200"/>
              <a:ext cx="395280" cy="184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8:14:20Z</dcterms:created>
  <dc:creator>JoAnne Hodgson</dc:creator>
  <dc:description/>
  <dc:language>en-US</dc:language>
  <cp:lastModifiedBy>Doug McFarland</cp:lastModifiedBy>
  <dcterms:modified xsi:type="dcterms:W3CDTF">2006-07-13T21:52:38Z</dcterms:modified>
  <cp:revision>11</cp:revision>
  <dc:subject/>
  <dc:title>No Slide Title</dc:title>
</cp:coreProperties>
</file>